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590-0A09-4F55-812E-88593EB6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970-89B1-446A-8558-4B72ECF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1E0-B3AE-4643-BC21-21847726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CD3-A605-4942-B705-C55B33E1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D4E-E4F7-4603-B311-90266268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0AF-D629-49E8-82C3-FC0E567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334-9A8A-49EE-A6E2-5707C59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6C9-1501-441E-AF40-0BC076C8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C1C-3FD3-4AE0-873B-94D291DB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830-293B-4252-98AC-4D93BE5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141-6D10-43D5-983A-D84E54B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851-C4ED-461B-A581-2A30200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D64-D59E-4835-9716-DE073D84B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heaven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676520"/>
            <a:ext cx="13338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9880" y="1676520"/>
            <a:ext cx="13338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91320" y="1676520"/>
            <a:ext cx="133344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396252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nd Off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504240" y="594360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54640" y="1828800"/>
            <a:ext cx="803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52880" y="4419720"/>
            <a:ext cx="533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red-apple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48006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981080"/>
            <a:ext cx="133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bearbrown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0481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bee1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133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ooksmile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92200" cy="262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bigdog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hotdog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giraffe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3526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2880" y="4648320"/>
            <a:ext cx="762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lion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200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suitcase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25909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425840" y="68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993960" y="45720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tvision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04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39200" y="533520"/>
            <a:ext cx="81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id you do?  Let’s try one last on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s one is tric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ayphone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524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16040" y="2362320"/>
            <a:ext cx="38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nt to try ag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goodthinkinx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664320" cy="16891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/>
          </p:cNvPr>
          <p:cNvSpPr/>
          <p:nvPr/>
        </p:nvSpPr>
        <p:spPr>
          <a:xfrm>
            <a:off x="1447920" y="3657600"/>
            <a:ext cx="6553080" cy="28954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crayons1x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00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66720" y="4267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ou did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oodthinkinx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6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3960" y="533520"/>
            <a:ext cx="70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n you tell the letter each pi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ins wi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54640" y="205740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934320" y="30481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4648320"/>
            <a:ext cx="1336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encil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609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93080" y="42670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OPS!  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unt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505320" y="5334120"/>
            <a:ext cx="2361960" cy="1066680"/>
          </a:xfrm>
          <a:prstGeom prst="leftArrow">
            <a:avLst>
              <a:gd name="adj1" fmla="val 50000"/>
              <a:gd name="adj2" fmla="val 5535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00:29:44Z</dcterms:created>
  <dc:creator>oem</dc:creator>
  <dc:description/>
  <dc:language>en-US</dc:language>
  <cp:lastModifiedBy>Elisa Wern</cp:lastModifiedBy>
  <dcterms:modified xsi:type="dcterms:W3CDTF">2004-01-18T02:21:15Z</dcterms:modified>
  <cp:revision>3</cp:revision>
  <dc:subject/>
  <dc:title>No Slide Title</dc:title>
</cp:coreProperties>
</file>